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2D80-41DE-475D-8380-68E802CA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0459-B6FE-4DE2-B562-67728877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9BCC-989F-4F5F-8B92-680FD5E5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C4C0-5FE2-4275-AD33-80620AD1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B634-4632-4E76-AFFB-B12B3D6A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3835-2F0F-4BA8-972F-673DA8AC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ABF6-2A8E-4728-9F2B-7AC32070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6E8D-A9A3-48A4-91E1-218ADA64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638D-8EF5-4BE2-B605-381D194B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2DC4-C9D8-4A21-9EA7-998BFFAC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D75F-2A17-4EBE-B5C2-A1F3D5CF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2E4C-76FB-452B-A687-5C061FD8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58E8-E676-4FE2-8773-41F8A9987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4760" y="2473200"/>
            <a:ext cx="3048120" cy="173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perator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d push(char op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 pop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L precedenceIsNotLowerThan(char op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L IsEmpty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d clear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74760" y="4683240"/>
            <a:ext cx="3048120" cy="155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perand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d push(double op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pop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L IsEmpty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d clear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97760" y="5048280"/>
            <a:ext cx="2209680" cy="82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perand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ope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97760" y="2930400"/>
            <a:ext cx="2209680" cy="82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perator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 op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3960" y="660240"/>
            <a:ext cx="1752480" cy="100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d ru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49600" y="1092240"/>
            <a:ext cx="1371600" cy="82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enTyp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code/ope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20840" y="1676520"/>
            <a:ext cx="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20840" y="3289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676520"/>
            <a:ext cx="0" cy="38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5537160"/>
            <a:ext cx="110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19640" y="3340080"/>
            <a:ext cx="965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5511960"/>
            <a:ext cx="965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20040" y="548640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750160" y="54990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8000640" y="632448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8001000" y="58924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32640" y="336564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763120" y="337824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8013600" y="420372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013600" y="377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78920" y="270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ion Evaluator C++ Vers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8T08:49:43Z</dcterms:created>
  <dc:creator>TING</dc:creator>
  <dc:description/>
  <dc:language>en-US</dc:language>
  <cp:lastModifiedBy>TING</cp:lastModifiedBy>
  <dcterms:modified xsi:type="dcterms:W3CDTF">2001-02-28T09:07:24Z</dcterms:modified>
  <cp:revision>1</cp:revision>
  <dc:subject/>
  <dc:title>無投影片標題</dc:title>
</cp:coreProperties>
</file>